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_rels/notesSlide15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7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5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7993-C64B-4388-B9F0-13FB9C06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7EE7-ABA8-40A2-AC67-25616C7D7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yuri.lbl.gov/amigo/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example: ‘chromosome’ in Sequence Ontology and in Cell Component Ontology means differen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olution: two distinct terms involved (qualified by respective name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ecies called ‘non-rabbi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biological species: unknown rabbit. See discussio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A53A-A47B-4BFF-BA46-563427D84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AEFE-D5A9-4001-B275-994BFBEDB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5328-D1D4-43BE-87DC-599332D3F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30F1-8B53-4107-B58D-540AAF970A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8B10-3773-4341-A31C-C9DEEF278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94D4-5547-417E-ABEF-0B93E31E2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8F9D-7101-44AA-BED6-2D9989A80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CBF9-B1C7-4BFE-B288-3AA338CC7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394F-BDCC-43E8-9810-E16351E98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4CD7-EBCA-4600-9763-4CAE733DB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0528-079A-43D9-A36F-83A56E7B1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EE74-BDF9-4260-97DA-4C898A603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43440" y="6552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5A7-5723-4510-BE8D-87382D078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obi.sourceforge.net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3300120"/>
            <a:ext cx="84582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ontology.buffalo.edu/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6C59-1FCA-4EC3-9733-C41C35D9B2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057400"/>
          <a:ext cx="8458200" cy="4267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2359-5F30-447F-9D64-E6FA4F165F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need rules/standards for good on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2206800"/>
            <a:ext cx="84582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ies must be intelligible both to humans (for annotation and curation) and to machines (for reasoning and error-checking): the lack of rules for classification leads to human error and blocks automatic reasoning and error-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ules allow alignment with other ont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975C-EC79-462B-8D7A-EBCF57C9EBE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79215"/>
                </a:srgbClr>
              </a:gs>
              <a:gs pos="50000">
                <a:srgbClr val="333399"/>
              </a:gs>
              <a:gs pos="100000">
                <a:srgbClr val="000000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legends for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711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B6FE-4B6A-4A2F-B6F0-8DC8F1D0DB1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ndomized controlled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rctbank.ucsf.edu/ontology/outline/inde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2155-594D-4718-A641-213C67AD37A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562B-8116-4A3B-8391-9D4FB248C43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at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al-entry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tiv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groun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ping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a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u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08B6-56D7-44D0-910E-0A33B0D16F6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Most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10BD-6D0E-4850-8AE9-51126B1FC4D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10A6-C930-44CD-87A8-3BF554B3C79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6984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iv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-size-calc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ression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ping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-variable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cellaneous-outco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valu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E213-CA33-47A5-9C4A-AE912989624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41DE-2CA2-47D9-BCB7-1B94FE41D2D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6C40-197D-4992-A643-486E0E23DF7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057400"/>
          <a:ext cx="8458200" cy="4276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7E73-1BA6-4C29-A409-3969C3032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top level should look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A0F4-BB37-4C48-A0C0-AF15AC60DC1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kinds of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curren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ocesses, events, happenin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bjects, qualities, stat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7FD2-98E4-42AD-A942-671785D1B631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tinuants (aka endur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ist </a:t>
            </a:r>
            <a:r>
              <a:rPr b="0" i="1" lang="de-DE" sz="3200" spc="-1" strike="noStrike">
                <a:solidFill>
                  <a:srgbClr val="ffffff"/>
                </a:solidFill>
                <a:latin typeface="Arial"/>
              </a:rPr>
              <a:t>in toto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whenever they exist at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ccurrents (aka proce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11BA-4410-4C6B-8DA9-3AF27D47E04D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re a continu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n occur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3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4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EE30-174D-4D30-8FCA-80DBE193A37C}" type="slidenum">
              <a:t>113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endent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run without a ru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0BC6-91C7-42EC-8D91-A54643519686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ent vs. independent continu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03160" y="2142720"/>
            <a:ext cx="803592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continuants (organisms, buildings, environ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 continuants (quality, shape, role, propensity, function, status, power,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C227-7B45-406C-A42F-7128336A4F1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occurrents are dependent ent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520" y="2571840"/>
            <a:ext cx="84582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4539-D979-4E2E-976A-D3ACC9B413C3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FO 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606680"/>
            <a:ext cx="2692440" cy="189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lways 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one or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4" idx="2"/>
            <a:endCxn id="496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4" idx="2"/>
            <a:endCxn id="497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52880" y="1219320"/>
            <a:ext cx="0" cy="502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DBD9-55DB-483C-BD12-B3C155E57BC5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A representation of top-level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00400" y="34290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502" idx="2"/>
            <a:endCxn id="50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502" idx="2"/>
            <a:endCxn id="505" idx="0"/>
          </p:cNvCxnSpPr>
          <p:nvPr/>
        </p:nvCxnSpPr>
        <p:spPr>
          <a:xfrm>
            <a:off x="2514240" y="2895480"/>
            <a:ext cx="1562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-47520" y="4537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49760" y="3029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17640" y="4543560"/>
            <a:ext cx="26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5872-9319-48C2-AFA1-B51E8F85BD8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5029200"/>
            <a:ext cx="2133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12" idx="2"/>
            <a:endCxn id="51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2" idx="2"/>
            <a:endCxn id="515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3" idx="2"/>
            <a:endCxn id="516" idx="0"/>
          </p:cNvCxnSpPr>
          <p:nvPr/>
        </p:nvCxnSpPr>
        <p:spPr>
          <a:xfrm flipH="1">
            <a:off x="5638320" y="2895120"/>
            <a:ext cx="12708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13" idx="2"/>
            <a:endCxn id="517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"/>
          <p:cNvCxnSpPr>
            <a:stCxn id="522" idx="0"/>
            <a:endCxn id="515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F144-5B0B-4EF1-8632-5D75A5118FB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2057400"/>
          <a:ext cx="8458200" cy="4618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BFO (Basic Formal Ontolog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O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NO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wissPr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e-commerce, etc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OAF top leve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person, topic, document, primary topic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mazon.com 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Library of Congress Cata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DDC8-F701-4785-9233-BB0D23CD9C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9124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5" idx="2"/>
            <a:endCxn id="527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5" idx="2"/>
            <a:endCxn id="528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6" idx="2"/>
            <a:endCxn id="529" idx="0"/>
          </p:cNvCxnSpPr>
          <p:nvPr/>
        </p:nvCxnSpPr>
        <p:spPr>
          <a:xfrm flipH="1">
            <a:off x="5857200" y="2895480"/>
            <a:ext cx="10515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2"/>
            <a:endCxn id="530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stCxn id="535" idx="0"/>
            <a:endCxn id="528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1F6D-8C50-47F7-B73D-3EEFF2F356E3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04920" y="1523880"/>
            <a:ext cx="8381520" cy="3657600"/>
            <a:chOff x="304920" y="1523880"/>
            <a:chExt cx="8381520" cy="3657600"/>
          </a:xfrm>
        </p:grpSpPr>
        <p:sp>
          <p:nvSpPr>
            <p:cNvPr id="539" name=""/>
            <p:cNvSpPr/>
            <p:nvPr/>
          </p:nvSpPr>
          <p:spPr>
            <a:xfrm>
              <a:off x="1299240" y="1523880"/>
              <a:ext cx="255708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19080" y="1528920"/>
              <a:ext cx="2509920" cy="106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ccur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92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87040" y="3033000"/>
              <a:ext cx="163368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720" y="4353480"/>
              <a:ext cx="156276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74720" y="4363920"/>
              <a:ext cx="1565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23960" y="4356000"/>
              <a:ext cx="1491480" cy="81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pat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eg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0016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10920" y="3033000"/>
              <a:ext cx="1775520" cy="125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ide-Effect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ochas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rocess, 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8" name=""/>
            <p:cNvCxnSpPr>
              <a:stCxn id="539" idx="2"/>
              <a:endCxn id="541" idx="0"/>
            </p:cNvCxnSpPr>
            <p:nvPr/>
          </p:nvCxnSpPr>
          <p:spPr>
            <a:xfrm flipH="1">
              <a:off x="1298520" y="2592720"/>
              <a:ext cx="12790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39" idx="2"/>
              <a:endCxn id="542" idx="0"/>
            </p:cNvCxnSpPr>
            <p:nvPr/>
          </p:nvCxnSpPr>
          <p:spPr>
            <a:xfrm>
              <a:off x="2577600" y="2592720"/>
              <a:ext cx="92664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40" idx="2"/>
              <a:endCxn id="546" idx="0"/>
            </p:cNvCxnSpPr>
            <p:nvPr/>
          </p:nvCxnSpPr>
          <p:spPr>
            <a:xfrm flipH="1">
              <a:off x="5693760" y="2592720"/>
              <a:ext cx="9802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40" idx="2"/>
              <a:endCxn id="547" idx="0"/>
            </p:cNvCxnSpPr>
            <p:nvPr/>
          </p:nvCxnSpPr>
          <p:spPr>
            <a:xfrm>
              <a:off x="6674040" y="2592720"/>
              <a:ext cx="112536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2" name=""/>
            <p:cNvCxnSpPr>
              <a:stCxn id="542" idx="2"/>
              <a:endCxn id="543" idx="0"/>
            </p:cNvCxnSpPr>
            <p:nvPr/>
          </p:nvCxnSpPr>
          <p:spPr>
            <a:xfrm flipH="1">
              <a:off x="1582560" y="3850200"/>
              <a:ext cx="192132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3" name=""/>
            <p:cNvCxnSpPr>
              <a:stCxn id="542" idx="2"/>
              <a:endCxn id="544" idx="0"/>
            </p:cNvCxnSpPr>
            <p:nvPr/>
          </p:nvCxnSpPr>
          <p:spPr>
            <a:xfrm flipH="1">
              <a:off x="3357360" y="3850200"/>
              <a:ext cx="146880" cy="51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4" name=""/>
            <p:cNvCxnSpPr>
              <a:stCxn id="542" idx="2"/>
              <a:endCxn id="545" idx="0"/>
            </p:cNvCxnSpPr>
            <p:nvPr/>
          </p:nvCxnSpPr>
          <p:spPr>
            <a:xfrm>
              <a:off x="3503520" y="3850560"/>
              <a:ext cx="1566360" cy="50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55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557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nstances (in space and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64C4-2483-45F0-AAFC-E60A07B8B087}" type="slidenum">
              <a:t>121</a:t>
            </a:fld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rcRect l="0" t="17547" r="20396" b="0"/>
          <a:stretch/>
        </p:blipFill>
        <p:spPr>
          <a:xfrm>
            <a:off x="228600" y="-52560"/>
            <a:ext cx="8915400" cy="692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E001-7F0D-46B2-9F62-840F87E48454}" type="slidenum">
              <a:t>122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rcRect l="8649" t="17547" r="3289" b="8771"/>
          <a:stretch/>
        </p:blipFill>
        <p:spPr>
          <a:xfrm>
            <a:off x="0" y="-152280"/>
            <a:ext cx="9144000" cy="57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5C7E-A6CE-4F87-B06C-DAA5A7281E49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TO will be part of OB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y of Biomedical Invest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bi.sourceforge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in turn part of the OBO Found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EA1A-AFDD-4EA5-A8BA-C4978704F2F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rcRect l="0" t="36195" r="72502" b="40039"/>
          <a:stretch/>
        </p:blipFill>
        <p:spPr>
          <a:xfrm>
            <a:off x="762120" y="914400"/>
            <a:ext cx="533376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1698-D2AC-4428-B50D-3C27FBDB4DFD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rcRect l="0" t="26112" r="70805" b="38889"/>
          <a:stretch/>
        </p:blipFill>
        <p:spPr>
          <a:xfrm>
            <a:off x="0" y="0"/>
            <a:ext cx="8653320" cy="691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0A84-16A3-45AF-9BB4-588E364B9AFD}" type="slidenum">
              <a:t>1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171C-2AA7-4E7D-9B67-CFBB6CB9C385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rcRect l="10698" t="2778" r="0" b="27778"/>
          <a:stretch/>
        </p:blipFill>
        <p:spPr>
          <a:xfrm>
            <a:off x="0" y="357120"/>
            <a:ext cx="9144000" cy="47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DB6B-1783-4AC3-BDCF-0F2331B8BA76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CE91-BB90-4669-A2C9-131FDD52743E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3276720"/>
            <a:ext cx="587376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387E-4DF5-4699-9936-CB024F519517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9869-483E-47FC-B745-39D04E126520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CD1D-F326-4F39-B41D-3CB0E21B7285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094C-FC61-4DF5-A969-B41DE67EB1D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Outcom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Administrativ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46EB-727A-4035-BF16-4661B8ADF4B8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iv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ity-languag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-gender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C4A6-0625-4535-A46B-836B277F6DB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rcRect l="23028" t="17547" r="7697" b="25161"/>
          <a:stretch/>
        </p:blipFill>
        <p:spPr>
          <a:xfrm>
            <a:off x="0" y="0"/>
            <a:ext cx="9448920" cy="586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3611-F8F5-4AA3-817D-47DE3ED3F26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rcRect l="23028" t="19299" r="8553" b="14038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3DF6-D66B-4308-B9DA-F9DAC91ECFA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1089-2ABD-4368-BD4E-6F3EFA861BA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6916-7091-4E21-9389-F0FDDB6B53E8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3925-2AEC-40E1-86FE-AE068024FD9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Price hasA Denomination InstanceOf Dollar (p. 1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-Unit instanceof System-of-Units (p. 4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ndbook of Ontolog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emantic Web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DCF9-1813-4FF6-BEBA-055DA368BAC8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AA6D-C3CA-4C67-A2F2-3C4FD50B012E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9A99-6185-41B8-B4B3-F8FEAC15985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-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??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B933-C5F2-43A6-94AD-FD7BF483F35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B033-CCB7-4D42-8F2C-14A3546C07CA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Intervention-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res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det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26AB-93E9-4501-9FCF-469FA8A7F35C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8744-DBCD-437A-A500-5C3FFCF6F4FB}" type="slidenum">
              <a:t>145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: Clinical Trial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poi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nical t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vention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ignment of populations to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ex experimental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ll hypothesi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interv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4140-A2D6-473E-AB46-16DBA9A9D245}" type="slidenum">
              <a:t>14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GE idea: use OBI to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sign data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to solve this problem of converting the ontology to a database 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‘instances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ng images (image repositori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on = shared understanding of a body of knowled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run a trial I stick my data in Excell and create a 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atabase, design tables – that’s it – no more anno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data is added regarding provenance, this data was added by A and corrected by Mc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 rare disease people share their data: here’s my data, here’s my data key, 1 is for males, 0 is for fem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ing is lo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UCSF (Clinical Data Repository) neurodegenerative people MS talk to Alzheimer’s they can’t because  (a) because of Hippa, (b) dataschemas are so different, (c) response to NIH: they put their excell spreadsheet out there, well gee whizz, (d) PharmGKB faced problems because of this (e) more obtuse the better. I can get another paper out of this d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possibility of meta-analysis –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posite of biologists’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B962-5262-450C-8B36-6B9A5483036A}" type="slidenum">
              <a:t>147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104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 of the Onto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gy of Biomedical Investig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nks to Trish Whetzel on behalf of the FuGO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3697-7F6B-4BD9-8A63-DF16298B0715}" type="slidenum">
              <a:t>148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a resource for the unambiguous description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iomedical investig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ch as the design, protocols and instrumentation, material, data and types of analysis on the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designed to model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consistent annotation of data across differen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biologic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able powerful concept-driven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semantically-driven data 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CF29-D0EB-4CD0-A95E-0810A6786300}" type="slidenum">
              <a:t>149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: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ntological Engineering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Semantic Web 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=def. a spatial point identified by a name (p.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ivalPlace =def. a journey ends at a location (p. 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t =def. ternary relation that holds between a frame, a slot, and the facet (p. 51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97D5-56D5-40F4-A742-98D78164FA2F}" type="slidenum">
              <a:t>15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1668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Motivation for 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ization efforts in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biological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ynt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ata exchange 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vide a mechanism for software interoperability, e.g. FuGE 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man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Controlled vocabularies or 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 commonalities for annotation term needs across domains to describe an investigation/study/experiment, e.g. F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BF8A-8A64-4268-A21C-33BB660C471F}" type="slidenum">
              <a:t>150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medical Investigation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76320" y="1981080"/>
          <a:ext cx="3220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3220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429000" y="2590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terial and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9718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nipulations or perturbations or observations performed on the material to meet the general aim of the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39625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he material was prepared for analysis - e.g. labeling, protein diges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9000" y="46483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instrument and settings that wer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52578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sults from the instrument, e.g. what units are re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594360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ype analysis performed to confirm/deny the hypothesis, e.g. clus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429000" y="1905120"/>
            <a:ext cx="5410080" cy="703800"/>
            <a:chOff x="3429000" y="1905120"/>
            <a:chExt cx="5410080" cy="703800"/>
          </a:xfrm>
        </p:grpSpPr>
        <p:sp>
          <p:nvSpPr>
            <p:cNvPr id="658" name=""/>
            <p:cNvSpPr/>
            <p:nvPr/>
          </p:nvSpPr>
          <p:spPr>
            <a:xfrm>
              <a:off x="3429000" y="1905120"/>
              <a:ext cx="541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cribe the design and purpose or general aim of the the Investiga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1981080"/>
              <a:ext cx="5257800" cy="533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429000" y="2666880"/>
            <a:ext cx="5334120" cy="304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3048120"/>
            <a:ext cx="5334120" cy="91440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4038480"/>
            <a:ext cx="5334120" cy="6098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29000" y="4724280"/>
            <a:ext cx="5334120" cy="5335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5334120"/>
            <a:ext cx="5334120" cy="6094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6019920"/>
            <a:ext cx="5334120" cy="8380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BA0F-064B-44B3-A8D5-E2C6805289CF}" type="slidenum">
              <a:t>151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trategy Deci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nified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is identified early in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al/Common terms are defined by all those collabo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bi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rms can be added as needed by collabo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needed to develop the on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2600" y="2057040"/>
            <a:ext cx="414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dependent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 ‘Ontology’ in a time frame limited only by the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of different working polic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f different top level cla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at lower levels of the ontology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F717-3B71-44E8-BF9A-CDAE6CF2ACF1}" type="slidenum">
              <a:t>152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llect Use Cases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examples of investigations as performed within a community and present Use Cases to developers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tom up approach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entify concepts to describe using controlled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terms and their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n terms in the top level ontology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p down approach - collaborative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ild a top level ontology structure, is_a (vertic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ke a list of other foreseen (horizont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view how Top Level Nodes fit in with the Upper Level Ont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3525-4BD1-4F6A-AE6B-BB07118ED42A}" type="slidenum">
              <a:t>153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- Top Level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 on another 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nvironment (depend on the set of ranges of conditions, e.g. geographic lo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Characteristics (entity that can be measured, e.g. temperature, un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alizable: an entity that is realizable through a process (executed/r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oftware (a set of machine instru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esign (the plan that can be realized in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ole (the part played by an entity within the context of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s on its 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ll physical entity (instrument, technology platform, document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iological material (organism, popul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ccurre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occurs/unfold i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emporal Regions, Spatio-Temporal Regions (single actions or Eve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vestigation (the entire ‘experimental’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tudy (process of acquiring and treating the biological mater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ssay (process of performing some tests and recording the resul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CA6E-A274-44D5-B7C3-C9728FA891FD}" type="slidenum">
              <a:t>154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erging FuGO Design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O Foundry ontology, utilize ontology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herit top level classes from an Upper Level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the Relation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llow additional OBO Foundry princip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Facilitates interoperability with other OBO Foundry 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recommendations for naming conventions and 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rmat for term names, e.g. underscore vs. camel case, no pur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Alphanumeric identifier for terms, I.e. something that does not have semantic mea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chanisms for adding synonym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pen source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égé/OW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Weekly conference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hared environment using Sourceforge (SF) and SF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C3D6-62ED-46DD-8921-A8AA371592A5}" type="slidenum">
              <a:t>155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inning process -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Reconciliations into one canonical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Iterativ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Common 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king practices - establi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class consists of: unique alphanumeric identifier, human readable string name, definition and com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forge tracker in place to collect comments on terms, definitions,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ntology so that top level classes meet the needs of all involved ‘communities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3E0E-3E4A-4ABF-8DDA-1FB950FE2CBF}" type="slidenum">
              <a:t>15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Collaborating Commun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 sciences Generation Challenge Programme (GCP), www.generationcp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al 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omic Standards Consortium (GSC), www.genomics.ceh.ac.uk/genomecatalog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PO Proteomics Standards Initiative (PSI), psidev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ology Database and Analysis Portal, www.immport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e Epitope Database and Analysis Resource (IEDB), http://www.immuneepitope.org/home.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Society for Analytical Cytology, http://www.isac-net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bolomics Standards Initiative (MSI), msi.workgroups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rogenetics, Biomedical Informatics Research Network (BIRN), www.nbirn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xico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omics MGED Ontology Group, mged.sourceforge.net/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0933-064C-4D06-AA45-3D611F46B4FF}" type="slidenum">
              <a:t>157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oidy level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is a model organism - Locate in XML Schema or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or the description of the biological material sequenced (isolate, soil sample etc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st - point to the NCBI Tax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lth/disease status of source host at time of collection - point to Diseas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C79E-D5CD-4693-8D40-28C4262C05E0}" type="slidenum">
              <a:t>158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sample - Point to Unit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strategy (was it enriched, screened, normalized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preparation (DNA extraction method and amplific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DA, emPCR, plones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ing Method Used (e.g. dideoxysequencing, pyrosequencing, polony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4B56-5885-47F3-A86C-9E4E58AA7B5B}" type="slidenum">
              <a:t>159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5257-6A98-445F-96F9-4A740C1B367C}" type="slidenum">
              <a:t>1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mbly (assembly method, estimated error rate and method of calculation)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ication (binning) method for fragments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1653-E2A1-44E0-9790-E6BBC8E6B116}" type="slidenum">
              <a:t>160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chanisms for GSC to Contribute to Fu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 involved in standardiz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nefit - choice in where to encounter tha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oice of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nds the work done by all those collaborating for use by a give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lap of terms at lower levels of the ontology tr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ed to re-build when top-level cha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784A-9B6E-4D2F-A782-81C4B36A7C97}" type="slidenum">
              <a:t>16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23880" y="4724280"/>
            <a:ext cx="61722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03440" y="48006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ttp://fugo.sourceforge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E385-E394-4786-BCA5-9DF2DB2118D5}" type="slidenum">
              <a:t>162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2ECB-DFF9-4536-8390-F9C37EB6AE05}" type="slidenum">
              <a:t>163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F1BE-3E2D-4591-81D8-CADE2D6876A5}" type="slidenum">
              <a:t>164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CE00-7926-457F-BAF1-A88A65CE3976}" type="slidenum">
              <a:t>165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121F-798B-46CD-90C5-D1693C6F01AA}" type="slidenum">
              <a:t>16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D1C9-5DD7-438E-88D9-6A13CCF95000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basic disti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cience tex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di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 Maximili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C77E-106C-4591-B0D2-5E68BCB01E8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nces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atabas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3000" y="2057040"/>
            <a:ext cx="796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neraliz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are important = universals, types, kinds,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00FA-75CE-4096-9F1F-1584232CA80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8120" y="-22860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talog vs.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E218-E4BC-46BF-B88E-E9DA64803A4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ion of the NCB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reate software and support services for science-based ontology development and use in the biomedical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ontologies for support of scientific research (taken as encompassing evidence-based medic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using the scientific method as part of the process of ontology development and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E33A-D435-4A67-8668-3EB40B953D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vs.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92" t="22228" r="3704" b="14819"/>
          <a:stretch/>
        </p:blipFill>
        <p:spPr>
          <a:xfrm>
            <a:off x="0" y="1994040"/>
            <a:ext cx="9144000" cy="34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4920" y="1981080"/>
          <a:ext cx="9032760" cy="3479400"/>
        </p:xfrm>
        <a:graphic>
          <a:graphicData uri="http://schemas.openxmlformats.org/drawingml/2006/table">
            <a:tbl>
              <a:tblPr/>
              <a:tblGrid>
                <a:gridCol w="2860200"/>
                <a:gridCol w="3086280"/>
                <a:gridCol w="3086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8BB7-F983-4741-B56F-DA2C40848E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of Universals/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320" y="1981080"/>
          <a:ext cx="8991360" cy="3479760"/>
        </p:xfrm>
        <a:graphic>
          <a:graphicData uri="http://schemas.openxmlformats.org/drawingml/2006/table">
            <a:tbl>
              <a:tblPr/>
              <a:tblGrid>
                <a:gridCol w="2795400"/>
                <a:gridCol w="3097440"/>
                <a:gridCol w="30985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5AD1-7C8B-422C-9543-9445718E8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    Universals    Insta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04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05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105" idx="4"/>
                <a:endCxn id="107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07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"/>
              <p:cNvCxnSpPr>
                <a:stCxn id="107" idx="4"/>
                <a:endCxn id="112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4" name=""/>
            <p:cNvCxnSpPr>
              <a:stCxn id="115" idx="4"/>
              <a:endCxn id="116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17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18" name=""/>
              <p:cNvCxnSpPr>
                <a:stCxn id="119" idx="4"/>
                <a:endCxn id="115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15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6" idx="4"/>
              <a:endCxn id="123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27" name=""/>
            <p:cNvCxnSpPr>
              <a:stCxn id="116" idx="4"/>
              <a:endCxn id="124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26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"/>
              <p:cNvCxnSpPr>
                <a:stCxn id="126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31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"/>
              <p:cNvCxnSpPr>
                <a:endCxn id="126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33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077C-E2C8-435F-96B3-E4606B1C1363}" type="slidenum">
              <a:t>2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41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42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"/>
              <p:cNvCxnSpPr>
                <a:stCxn id="142" idx="4"/>
                <a:endCxn id="144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45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44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"/>
              <p:cNvCxnSpPr>
                <a:stCxn id="144" idx="4"/>
                <a:endCxn id="149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0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1" name=""/>
            <p:cNvCxnSpPr>
              <a:stCxn id="152" idx="4"/>
              <a:endCxn id="153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54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55" name=""/>
              <p:cNvCxnSpPr>
                <a:stCxn id="156" idx="4"/>
                <a:endCxn id="152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7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52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3" idx="4"/>
              <a:endCxn id="160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3" idx="4"/>
              <a:endCxn id="161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63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7" name=""/>
              <p:cNvCxnSpPr>
                <a:stCxn id="163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68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endCxn id="163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70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94DA-B916-4846-A878-58A88FFC9F8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76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77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8" name=""/>
              <p:cNvCxnSpPr>
                <a:stCxn id="177" idx="4"/>
                <a:endCxn id="179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0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79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3" name=""/>
              <p:cNvCxnSpPr>
                <a:stCxn id="179" idx="4"/>
                <a:endCxn id="184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5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"/>
            <p:cNvCxnSpPr>
              <a:stCxn id="187" idx="4"/>
              <a:endCxn id="188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89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90" name=""/>
              <p:cNvCxnSpPr>
                <a:stCxn id="191" idx="4"/>
                <a:endCxn id="187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92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87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8" idx="4"/>
              <a:endCxn id="195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99" name=""/>
            <p:cNvCxnSpPr>
              <a:stCxn id="188" idx="4"/>
              <a:endCxn id="196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98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"/>
              <p:cNvCxnSpPr>
                <a:stCxn id="198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203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4" name=""/>
              <p:cNvCxnSpPr>
                <a:endCxn id="198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05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1447920"/>
            <a:ext cx="5410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node of an ontology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ferred term (aka 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rm identifier (TUI, aka C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tion, glosse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601C-171D-4827-BDED-8170FA7B057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y is a representation of univers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about universals in reality from looking at the results of scientific experiments in the form of scientific theories – which describe not what is particular in reality but what is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5014-CE3C-4F8C-B326-B00483A760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687960" y="3390480"/>
            <a:ext cx="1598400" cy="1410840"/>
            <a:chOff x="687960" y="3390480"/>
            <a:chExt cx="1598400" cy="1410840"/>
          </a:xfrm>
        </p:grpSpPr>
        <p:sp>
          <p:nvSpPr>
            <p:cNvPr id="215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5" idx="4"/>
              <a:endCxn id="217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>
              <a:off x="68796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217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17" idx="4"/>
              <a:endCxn id="222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25" idx="4"/>
            <a:endCxn id="226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227" name=""/>
          <p:cNvGrpSpPr/>
          <p:nvPr/>
        </p:nvGrpSpPr>
        <p:grpSpPr>
          <a:xfrm>
            <a:off x="5107680" y="572760"/>
            <a:ext cx="1750680" cy="1410840"/>
            <a:chOff x="5107680" y="572760"/>
            <a:chExt cx="1750680" cy="1410840"/>
          </a:xfrm>
        </p:grpSpPr>
        <p:cxnSp>
          <p:nvCxnSpPr>
            <p:cNvPr id="228" name=""/>
            <p:cNvCxnSpPr>
              <a:stCxn id="229" idx="4"/>
              <a:endCxn id="225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10768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225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4"/>
            <a:endCxn id="233" idx="1"/>
          </p:cNvCxnSpPr>
          <p:nvPr/>
        </p:nvCxnSpPr>
        <p:spPr>
          <a:xfrm>
            <a:off x="4876560" y="1998720"/>
            <a:ext cx="1562760" cy="16596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37" name=""/>
          <p:cNvCxnSpPr>
            <a:stCxn id="226" idx="4"/>
            <a:endCxn id="234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236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6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41" name=""/>
            <p:cNvSpPr/>
            <p:nvPr/>
          </p:nvSpPr>
          <p:spPr>
            <a:xfrm>
              <a:off x="424944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endCxn id="236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24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10920" y="4330800"/>
            <a:ext cx="8382600" cy="1917720"/>
            <a:chOff x="610920" y="4330800"/>
            <a:chExt cx="8382600" cy="1917720"/>
          </a:xfrm>
        </p:grpSpPr>
        <p:grpSp>
          <p:nvGrpSpPr>
            <p:cNvPr id="245" name=""/>
            <p:cNvGrpSpPr/>
            <p:nvPr/>
          </p:nvGrpSpPr>
          <p:grpSpPr>
            <a:xfrm>
              <a:off x="610920" y="5410080"/>
              <a:ext cx="8304480" cy="838440"/>
              <a:chOff x="610920" y="5410080"/>
              <a:chExt cx="830448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610920" y="5502240"/>
                <a:ext cx="211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stance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733920" y="5410080"/>
                <a:ext cx="5181480" cy="838440"/>
                <a:chOff x="3733920" y="5410080"/>
                <a:chExt cx="5181480" cy="838440"/>
              </a:xfrm>
            </p:grpSpPr>
            <p:pic>
              <p:nvPicPr>
                <p:cNvPr id="2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39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1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24280" y="5410080"/>
                  <a:ext cx="83844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0773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34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 rot="5383800">
              <a:off x="5984280" y="2249280"/>
              <a:ext cx="912960" cy="5100840"/>
            </a:xfrm>
            <a:custGeom>
              <a:avLst/>
              <a:gdLst>
                <a:gd name="textAreaLeft" fmla="*/ 583200 w 912960"/>
                <a:gd name="textAreaRight" fmla="*/ 913320 w 912960"/>
                <a:gd name="textAreaTop" fmla="*/ 132840 h 5100840"/>
                <a:gd name="textAreaBottom" fmla="*/ 4968000 h 51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f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4295880"/>
            <a:ext cx="1067040" cy="0"/>
          </a:xfrm>
          <a:prstGeom prst="line">
            <a:avLst/>
          </a:prstGeom>
          <a:ln w="57240">
            <a:solidFill>
              <a:srgbClr val="99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1F40-6E95-4B2E-BB6F-3DDC7D5F3CA5}" type="slidenum">
              <a:t>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 portion of reality that forms the subject-matter of a single science or technology or mode of study or administrative practice ...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88DF-38D3-4BD1-9804-CC914ADE0DD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54BF-DA87-4AC5-A229-ADF1D953450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representational artifac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comparable to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ience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82DD-BBC7-478E-BF79-329D4AB5916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057400"/>
          <a:ext cx="8458200" cy="36576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8F11-E783-4783-A7FD-E9B04966CFE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ich are minimal (ato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2E9A-8C96-48A3-9722-013CC34E126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59B4-4C45-44B5-A0A1-C0018CAC046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92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849560" cy="579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representational units, no ‘atom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9552-ED67-4439-933C-679685E4655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50680" y="944280"/>
            <a:ext cx="7988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3874-3B16-4ECC-B27A-6EA565A3A6F9}" type="slidenum">
              <a:t>33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34E6-95B4-4AF7-86BB-EDCA156A2A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5400000">
            <a:off x="1090800" y="265968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E536-871A-4073-854F-B7675E54CD8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4335840" y="1836000"/>
            <a:ext cx="1957320" cy="1181160"/>
          </a:xfrm>
          <a:custGeom>
            <a:avLst/>
            <a:gdLst>
              <a:gd name="textAreaLeft" fmla="*/ 305640 w 1957320"/>
              <a:gd name="textAreaRight" fmla="*/ 1712880 w 195732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BAC8-09F4-47C4-BA13-6887D08D2ABF}" type="slidenum">
              <a:t>3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3D91-9218-4008-91F9-5D67B0AA30B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 represent universals in re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FF57-23F1-44D1-9569-0D3EA4E29B7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” is not the name of a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F689-0FAA-4845-A473-AB50D06817B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91440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types of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-scienc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pture terminology-level knowledge used by best current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e.g. billing ontologies, bloodbank ontologies, lab workflow ontolog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BD97-DCDF-4ADE-BEEA-A31746FE998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685800" y="4952880"/>
          <a:ext cx="8229600" cy="19116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715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7763-1D2A-4F9E-B06D-1BBEA1C651CD}" type="slidenum">
              <a:t>40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y vs. Catalo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520" y="3124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FCDB-2BA3-481C-8283-FC6CDC5A05D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we know which general terms designate univers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ghly: terms used by scientists to designate entities about which we have a plurality of different kinds of testable pro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cell, electron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D0B8-76B4-4D8C-830E-F8F5FFCBBE8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fiat demar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over 30 years of age with family history of diabet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curvature of sp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 in trial #20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8A9A-9C6F-494E-841F-AB03960355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r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A-approved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0B5D-6776-47A6-BF86-CAC3A47220D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ministrative ontologies often need to go beyond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on stairs or ladders in water transport injuring occupant of small boat, unpowere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way accident involving collision with rolling stock and injuring pedal cycli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traffic accident involving motor-driven snow vehicle injuring pedestria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E8B8-60D3-43D5-9027-8EB3D7B6DD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a,b,c,...}    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8829-FC1E-4ECC-894D-86F8FF351D5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ximal collection of particulars determined by a general 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‘cell’. ‘electron’), (‘ ‘restaurant in Palo Alto’, ‘Italian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0478-53EB-46A2-9D61-5B74BBD5DF9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general term can be used to refer both to universals and to collections of particulars. Consi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infectious retr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preading very rapidly through A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8A94-B3FA-4716-9E03-FAF223C7D6A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c,d,e,...}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18924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328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6E13-DBA0-4C0A-A0BC-19FF96989E1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tific ontologies have special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term in a scientific ontology must be such that the developers of the ontology believe it to refer to some entity on the basis of the best current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4E2A-0E47-4936-ADA4-A80159B7C22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ens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ension of a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class: instance of 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t is the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class of all entities to which the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appl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2F83-A604-4D64-9139-DB09202EDD8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7DA7-1798-49F5-8D23-FE942E623B4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C4E6-A792-4EAA-B100-93C395EEECD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ss defined by a general term which does not designate a unive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lass of all diabetic patients in Leipzig on 4 June 19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48C4-FCA6-4CAD-86A0-BB58F7C6AFC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2495520"/>
            <a:ext cx="84582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bling of Finnish s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mber of Abba aged &gt; 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E944-637C-45F9-B6A6-FB5118577F0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minology =de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are natural language terms (with IDs, synonyms, comments, etc.) which are intended to designate universals together with defined class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041C-1476-43FA-91FF-B0AC15D6B1E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, classes,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981080"/>
            <a:ext cx="39625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048120"/>
            <a:ext cx="71629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343400"/>
            <a:ext cx="9144000" cy="8380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62920" y="4343400"/>
            <a:ext cx="1981080" cy="838080"/>
            <a:chOff x="7162920" y="4343400"/>
            <a:chExt cx="1981080" cy="838080"/>
          </a:xfrm>
        </p:grpSpPr>
        <p:sp>
          <p:nvSpPr>
            <p:cNvPr id="353" name=""/>
            <p:cNvSpPr/>
            <p:nvPr/>
          </p:nvSpPr>
          <p:spPr>
            <a:xfrm>
              <a:off x="7162920" y="4343400"/>
              <a:ext cx="0" cy="838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2920" y="4343400"/>
              <a:ext cx="1981080" cy="838080"/>
            </a:xfrm>
            <a:prstGeom prst="rect">
              <a:avLst/>
            </a:prstGeom>
            <a:solidFill>
              <a:srgbClr val="99ccff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0912-7959-49EA-BB05-2A8A2C9244F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versals &lt; defined classes &lt; ‘concep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’ which do not correspond to defined 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or other procedure not carried out because of patient's decisio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nippl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356A-BF38-4B00-A34A-D838603A7C7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cientific) Ontology =de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743120"/>
            <a:ext cx="8458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ose relations between these universals which obtain universally (= for all insta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031F-D318-4D0E-AB64-CB080DC40E6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A647-4D51-47FF-B8B8-CE3C85B9BC3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ability is cru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tibility with neighboring scientific ontologies is cruci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should not be too easy to add new terms to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introduce these features in clinical medicine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3F0D-F274-4F71-842F-E462204317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scientists to create an initial top-level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~50 most commonly used terms corresponding to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 these terms into an inform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y according to this Universality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is_a 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n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 missing terms to give a complete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ve it to domain scientists to populate the lower levels of the hierarc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CC90-0E2E-4041-8698-F8433AC81A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 of Low Hanging Fru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even absolutely trivial assertions (assertions you know to be universally tru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is_a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need to be led by the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2722-C9C4-4373-A829-CC01834F389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opology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1CC2-9B88-406D-A817-473397B24F6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ingular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in ontologies represent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DAB3-5E85-48D4-8EF0-EE09DCAFB82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al: Each term in an ontology represents exactly one univer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8200" y="2514600"/>
            <a:ext cx="6556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universals also of collectiv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x of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5C26-DFA1-4EFA-B0E4-8CB962C5417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se-mention con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eptual Entities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 organizational header for concepts representing mostly abstract ent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is healthy and has eight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EBE9-48E1-4F1F-A3E2-BF7D6968649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words an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concepts in our minds and entitie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: avoid the word ‘concept’ entir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D3FD-3F7E-44A1-AE81-3424F3CED6F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’ = def. ‘a  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0D3D-788A-4A00-8ED1-18C722B411F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rin therapy’ is an instance of ‘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roblems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misuse of quotation 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onfusion of instances and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onfusion of concept and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1F14-57F7-4652-97AC-BA44FF36421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1E61-9973-4A3F-B6CE-7EF5D5E114C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ssue of how the ontology will be used is not a factor relevant for determining which entities in the ontology will be selected as universals (types, kinds, ... cla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decision is made on the basis of each specific use, this thwarts reu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79CE-04EA-4BD7-A150-351DC144DDB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ake of interoperability with other ontologies, do not give special meanings to terms with established general mea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on’t use ‘cell’ when you mean ‘plant cell’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EE16-7B05-4976-A777-B9B13F72897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NP: International Classification of Nursing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=def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4B6C-83AE-46A2-B13F-6A775AB8060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y definitions wherever pos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oth human-understandable natural language definitions, and equivalent formal defini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B16A-CAAB-4A83-BF05-2058264014E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erm should have at most one definition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which may have both natural-language and formal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BF0E-7260-413B-AB4D-42AD958FDC0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7156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blem of Circu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= def. A person with an identity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EF1B-18E7-424D-873E-FEA7E4C1BF8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ircular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term defined should not appear in its own defini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3473-8255-4C63-B924-90523C07C910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L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pping a medication’ = de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AF9B-B521-4B4B-9257-191EE18C13E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finition should use terms which are easier to understand than the term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L7 creates a topsy turvy world, in which simple things are made difficul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3A9A-49CE-4630-83F7-F3F275C461B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ristotelian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 is a B which C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CC90-C37A-406D-9D12-72532A51EA5E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seek to define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C2DA-AED5-485F-A14A-124B9F8BBC37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ies may be brought into existence by the ontology itself. (Convention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task-dependent – reusability and compatibility not (always)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may invent dummy entities (‘surgical procedure not performed because of patient request’) e.g. for forensic reasons (reality and knowledge are confu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743A-77FB-4523-9FAC-C72650DFC73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every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erms and some relations ar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y cannot be defined (on pain of infinite reg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rimitive rel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6CD4-46CF-4A16-9FED-2EF4A1DF640F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 good, general constraint on a theory of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2715840"/>
            <a:ext cx="84582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linguistic expression ‘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’ means 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now’ means: 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neumonia’ means: pneumon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D768-1182-4232-84A7-9303FDB68C0E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L7 Reference Informatio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’ does not mean: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ord of medication in an information system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ping a medication’ does not mean: stopping a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DE3E-F713-411D-860C-2F0EA2C3A0A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les for formatting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crony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mass terms (‘tissue’, ‘brain mapping’, ‘clinical research’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ach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in an ontology is shorthand for a term of the form ‘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1D92-CBDA-468A-9CFB-9E2A7907B3B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ocit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hould have the same meanings on every occasion of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y should refer to the same univers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ntological relations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uld be used in the same way by all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4A7D-8778-417A-B50A-6FADA7E4220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should include only those relational assertions which hold univers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AEB3-35A8-46B8-81F3-80B8BEDF39B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, order will mat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as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ult transformation_of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 transforms_into 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5110-0770-45DC-9E01-6E2BAEB2DF6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al pneumonia caused by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37DD-0AEE-4B0D-BED6-07E68BCB32C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col-design earlier_than result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ults analysis later_than protocol-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71C9-95D3-40BF-A85E-5FEA23E2CFB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2277720"/>
            <a:ext cx="84582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ments of universals are not themselves univers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am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embra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ther metalworker in New Zea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5271-B339-4E5A-913B-886D781566E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shortfalls of existing administrative ontologies can be overcome by adopting the scientif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, in the long run,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actic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ontolog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 data mod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DA09-2E90-449F-A453-FD657800C4A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tology of universals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gic of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onjunctive and disjunctive universal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atomic structure, system, or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usculoskeletal and connective tissue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heumatism, excluding th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81B6-A300-4471-A386-546E4EF610C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universals exist in reality is not a function of 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class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loc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thropathies not otherwis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53C4-D9C1-4C8A-8B83-AAC751C4FEF5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ep Epistemology Separate from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852560"/>
            <a:ext cx="8686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 th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not know wher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s with unknown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well-constructed ontology should grow linearly; it should not need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r relations becaus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creas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knowled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7249-9E92-4702-8719-6D5FF9876CCD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surmise that this is a case of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rmised pneumon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ep Sentences Separate from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2895-D062-4126-A419-42856FA01558}" type="slidenum">
              <a:t>93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gle Inheri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kind in a classificatory hierarchy should have more than on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ent on the immediate higher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B897-55AF-4AA3-BF52-E5CC47054226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1080" y="3637080"/>
            <a:ext cx="33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92640" y="57625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692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244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57760" y="0"/>
            <a:ext cx="1600200" cy="1295280"/>
            <a:chOff x="3857760" y="0"/>
            <a:chExt cx="1600200" cy="1295280"/>
          </a:xfrm>
        </p:grpSpPr>
        <p:sp>
          <p:nvSpPr>
            <p:cNvPr id="441" name=""/>
            <p:cNvSpPr/>
            <p:nvPr/>
          </p:nvSpPr>
          <p:spPr>
            <a:xfrm>
              <a:off x="3857760" y="0"/>
              <a:ext cx="1600200" cy="1295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86360" y="123120"/>
              <a:ext cx="1143000" cy="986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F2FD-601F-46F4-AAD8-4826C0E4C86B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5960" y="2499840"/>
            <a:ext cx="82231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ource of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laz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as obstacle to integration with neighboring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Aristotelian methodology for defining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statistical search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857760" y="0"/>
            <a:ext cx="1600200" cy="1600200"/>
            <a:chOff x="3857760" y="0"/>
            <a:chExt cx="1600200" cy="1600200"/>
          </a:xfrm>
        </p:grpSpPr>
        <p:sp>
          <p:nvSpPr>
            <p:cNvPr id="446" name=""/>
            <p:cNvSpPr/>
            <p:nvPr/>
          </p:nvSpPr>
          <p:spPr>
            <a:xfrm>
              <a:off x="3857760" y="0"/>
              <a:ext cx="16002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86360" y="152280"/>
              <a:ext cx="114300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D90A-14F4-46B9-B159-08ECB24FD7F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3280" y="35812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67880" y="57913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0520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0072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857760" y="0"/>
            <a:ext cx="1600200" cy="1447920"/>
            <a:chOff x="3857760" y="0"/>
            <a:chExt cx="1600200" cy="1447920"/>
          </a:xfrm>
        </p:grpSpPr>
        <p:sp>
          <p:nvSpPr>
            <p:cNvPr id="457" name=""/>
            <p:cNvSpPr/>
            <p:nvPr/>
          </p:nvSpPr>
          <p:spPr>
            <a:xfrm>
              <a:off x="3857760" y="0"/>
              <a:ext cx="1600200" cy="1447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6360" y="137520"/>
              <a:ext cx="1143000" cy="110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D8C5-E514-43E3-BC8A-E95477880878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s_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Overlo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ccess of ontology alignment demands that ontological relations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, part_of, 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have the same meanings in the different ontologies to be alig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A4B1-057F-4D27-8E33-C8A21E461B9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i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anings of compound terms should be determ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by the meanings of component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gether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rules governing syn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20ED-8078-445B-8075-700D2B9CBF5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45:10Z</dcterms:created>
  <dc:creator>phismith</dc:creator>
  <dc:description/>
  <dc:language>en-US</dc:language>
  <cp:lastModifiedBy>Barry Smith</cp:lastModifiedBy>
  <dcterms:modified xsi:type="dcterms:W3CDTF">2006-10-25T21:39:39Z</dcterms:modified>
  <cp:revision>91</cp:revision>
  <dc:subject/>
  <dc:title>NIH VISION THING</dc:title>
</cp:coreProperties>
</file>